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6F08-67D8-40AB-986F-F3EF13BB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73F0-F5DC-4F3E-95C0-660D2FA2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623C-4FEB-4713-BA77-E73F3B64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342-B59A-4CEC-A65E-B8F24BF0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5F8-331E-41EC-B140-4146F2E3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7E07-A74A-435B-8DE8-31C0F4C0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429B-E62F-4950-8A24-F359570B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DE9-3F29-46C3-A609-1EF5DF3A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EE0C-FF3B-45D7-AEEA-1D101BBE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855-302A-4601-9098-ED9BACEE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90BA-AF51-4D47-A675-6EA07E92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4F06-2F8F-450F-A863-D3BC9148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8904-9694-4AE0-B633-1D5C12969F2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3581280"/>
            <a:ext cx="183816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34099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الانجليزية البريطانية و الانجليزية الأمريك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68580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- Different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68580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كلمات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81952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- Different Sp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281952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روف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87692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re Abbrevi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487692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اختصارات اخر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1771560"/>
            <a:ext cx="1838160" cy="1752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419720" y="160020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3885840"/>
            <a:ext cx="6019920" cy="2514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imes New Roman"/>
              </a:rPr>
              <a:t>الـتـمـاريـ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3353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chequ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chi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lif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ty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t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lor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. trouser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. fl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. program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. col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191120"/>
            <a:ext cx="7772400" cy="2361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tel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T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N.B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e.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10t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O.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26:55Z</dcterms:created>
  <dc:creator>Bafayad</dc:creator>
  <dc:description/>
  <dc:language>en-US</dc:language>
  <cp:lastModifiedBy>معمل الانجليزي</cp:lastModifiedBy>
  <dcterms:modified xsi:type="dcterms:W3CDTF">2005-03-27T08:49:45Z</dcterms:modified>
  <cp:revision>7</cp:revision>
  <dc:subject/>
  <dc:title>عرض تقديمي من PowerPoint</dc:title>
</cp:coreProperties>
</file>